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F27-88BF-43BF-99AF-BE9C9DBF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12C-A67C-4334-8E55-E242026A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465-2AEB-49E4-B79F-3D22E74A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636-DA22-4AFB-A868-551A3346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C0B6-916C-4020-AE41-2AA4758A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7DB0-1E10-48D2-8558-F311A40A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701B-772C-41E6-B077-2BCFCF44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BAF7-9C0E-413C-9D7F-2D30A148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0C34-D740-4026-80CD-512AA526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530E-B2C1-407C-924B-8876282D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2FA7-345D-43B5-85E4-9E1971BA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456-5E2C-44E8-ACEE-91CFF3AC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1268-4ACD-4CA0-A8BC-732C92F5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950E-969D-4191-A768-8F78B4AC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95B2-3D21-4CC6-B043-26E2E865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B74F-BD4B-4F2B-83EA-6C86294D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536B-5A39-4F38-B9C6-D49A66FB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0DA-430E-4A55-9A42-C099B4D4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A23-C1AD-44A6-8C3D-3B1513E9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805-F5CB-4ED1-A530-B275DE6B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8E5-530A-40FA-924F-556680DB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ECC-D22E-4970-B54B-CBD16BB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CA6-2353-41F3-B65F-DB474AE1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462-3602-45EE-B134-C85B231D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73B1-EFA2-41D3-8531-B7FAA00BBD9C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925B-E5F3-4410-8010-CF4E1A9C0AA3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5184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Edgewood Middle School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Peer Buddy Program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ome More Sensitivity Experiment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 Off the Floor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Peer Buddies are asked to get off the floor from a lying position.  They are not allowed to use their head or neck muscles to assist them with getting off the floo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nd Off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Peer Buddies watch a short movie clip with the sound off.  They are asked to follow the plot and determine what genre of movie they are watchin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ssion 4-Scenarios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discuss a series of “possible scenarios” that they may encounter with their Budd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gether, the Peer Buddies practice problem solving skills and determine how to help their Buddy in the given scenario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ssion 5-Classroom Observa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are assigned a Buddy/Buddies to work wit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observe the class of their Buddy.  This may be an academic class or another Creative Arts clas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make notes about the structure of the class to help them prepare for working with their Budd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Responsibilit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ce assigned to a Buddy, Peer Buddies work directly with their Buddy to assist with school work and socializa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are required to complete five reflective journals throughout their experi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Discussion Day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roughout the semester, the Peer Buddies meet as a large group to share their successes and challeng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eer Buddies have an opportunity to problem-solve through any challenges they may be experienc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Do Student Choose to Become Peer Buddie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8229600" cy="32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coming Frien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derstanding that we’re all differe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ing things togethe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dicated to doing the right th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u can make a differenc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ore than just a clas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gain the understanding of what is like to have a disabilit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learn sensitivity towards someone with a disabil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form a positive relationship with a peer who has a significant disabilit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are given the opportunity to make a difference in someone else’s lif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ch Peer Buddy completes a series of training sessions so he/she is well prepared to work with his/her Budd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udents are given the opportunity to have open and honest conversations about becoming a Peer Budd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ssion 1-Documentar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watch a documentary film about young adults living with disabiliti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get the opportunity to see what similarities they have to those in the vide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participate in thoughtful discussion about what they currently know about people with disabilities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ssion 2-Disability Researc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research information on different disabiliti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share with each other the important information they found on the disability they researche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Peer Buddies learn about specific characteristics and strategies they can use when working with a budd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371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ssion 3-Sensitivity Experim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participate in a series of sensitivity experiment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gain an understanding of what it is like to have a disabilit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face similar challenges of their Buddies, allowing for them to learn how to help their budd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nsitivity Experim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llowing Direct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Peer Buddies have to follow a series of simple directions; however, directions are presented quickly and without visual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tter Puzzl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Peer Buddies are given a worksheet containing complicated letter puzzles and are asked to complete the worksheet in a certain amount of time without clear direction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nsitivity Experiments Continued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ssage Reading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Peer Buddies are given a paragraph to read and asked to answer questions following the paragraph.  The paragraph is written with letters reversed and omitted without any spacing between word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irror Writing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Peer Buddies are asked to write their name on a piece of paper while looking at their reflection in the mirro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ore Sensitivity Experiments…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indfold Gam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Peer Buddies take turns being blindfolded and completing a task created by their pe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ange in Routin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Peer Buddies are asked to “walk” their schedule; however, there are changes made to their normal schedule.  They are asked to follow their schedule in a certain amount of time, and are not allowed to write their schedule down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25:16Z</dcterms:created>
  <dc:creator>nssd112</dc:creator>
  <dc:description/>
  <dc:language>en-US</dc:language>
  <cp:lastModifiedBy>nssd112</cp:lastModifiedBy>
  <cp:lastPrinted>1904-01-01T00:00:00Z</cp:lastPrinted>
  <dcterms:modified xsi:type="dcterms:W3CDTF">2009-08-27T01:53:56Z</dcterms:modified>
  <cp:revision>9</cp:revision>
  <dc:subject/>
  <dc:title>Edgewood Middle School  Peer Buddy Program</dc:title>
</cp:coreProperties>
</file>